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A7D2-095B-43B9-A3CB-97272BFD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CD0D-74F4-4D0F-B944-69D69E863E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42A-276E-4FF0-BCFB-9FF8F52598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body paragraph dealing with the Progressive 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ic sentenc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aliciz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is a general statement.  Proper nouns (or PEPS) are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The proper nouns (or PEPS) are supporting information (that is, used in support of the topic sente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Progressives were dedicated to making government more responsive to the will of the people instead of the will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rban boss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or nation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rpor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At the local level, this can be seen by the adoption of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stralian or secret bal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ich greatly reduced the power of the urban boss.  At the state level, especially in the West,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ive, referendum and rec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ere adopted.  [Describe these three.]  At the national level,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th Amend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as passed in 1913.  That provided for the direct election of senators, which greatly reduced the influence of corporations.  (Recal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 Norris’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Octopu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addressed the inordinate power of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ern Pa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ailroad 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 state legisla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)  At all levels of government—local, state and national—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ess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k action to increase the power of the people and decrease the power of bosses and corpo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if you describe the initiative, referendum and recall, you have a long paragraph.  You might want to break it up into two or three paragraphs, depending on how much you can write on the 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1183-FE7E-41CE-A74F-AED0E0FA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0C13-2ADD-461E-A39E-4AF31B2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4FD3-2D5B-4FD2-9F36-FA6E7CB0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142A-629A-4DBD-9C7D-83C1B97B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05DD-B3E4-4712-B5CF-A809CAEE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640F-7272-4D45-A775-A2ADA4D1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281D-47EB-45FF-855B-9C3D405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44FA-5AD9-4821-9BDC-184BBA46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F199-8338-40D9-BF0D-0AE691FB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B91C-C54D-4361-8C42-C7E4E00C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F5A4-84C5-4FE8-95F6-26251D5D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8392-7899-4EB0-A1E4-10342C85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99A0-131C-4FC0-9930-D240656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B87D-5F62-4F79-A3DD-DFBE872C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8A6C-45DD-4767-B118-4BF9E3A7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A82E-9162-41F9-8B57-50196F5E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6E80-CE2B-47BE-B9CA-65937A9B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FF47-F488-446E-99BF-36C6E15B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940D-DEF7-42B6-B993-0CF6241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59B5-29FA-40D9-9D27-C7B2596A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C09A-BD15-41E9-A93D-94A64089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BF5B-962F-45B7-BDF2-E90DD28E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9398-6023-475A-A3AC-6F581D2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78DD-9A0A-49FB-8258-1B46F29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5AA-0987-4AFC-88A3-8C85650661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CD2B-622D-4D61-8C21-44F353AE7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191880"/>
            <a:ext cx="7340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Writing Effective Free Response Essay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essay writing"/>
          <p:cNvPicPr/>
          <p:nvPr/>
        </p:nvPicPr>
        <p:blipFill>
          <a:blip r:embed="rId1"/>
          <a:stretch/>
        </p:blipFill>
        <p:spPr>
          <a:xfrm>
            <a:off x="2895480" y="1828800"/>
            <a:ext cx="289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utlines do not have to be formal, just sketch a structure and put your facts into that structure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Line 3"/>
          <p:cNvSpPr/>
          <p:nvPr/>
        </p:nvSpPr>
        <p:spPr>
          <a:xfrm flipH="1">
            <a:off x="1828440" y="2438280"/>
            <a:ext cx="76212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828800" y="3657600"/>
            <a:ext cx="838080" cy="10666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1905120" y="4724280"/>
            <a:ext cx="76176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38080" y="25909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838080" y="411480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olitic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39160" y="50292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6477120" y="2286000"/>
            <a:ext cx="0" cy="182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257800" y="3200400"/>
            <a:ext cx="2438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5334120" y="5105520"/>
            <a:ext cx="838080" cy="6094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5943600" y="4800600"/>
            <a:ext cx="76212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791320" y="5562720"/>
            <a:ext cx="12189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4876920" y="4876920"/>
            <a:ext cx="76176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5"/>
          <p:cNvSpPr/>
          <p:nvPr/>
        </p:nvSpPr>
        <p:spPr>
          <a:xfrm flipH="1">
            <a:off x="4800240" y="5486400"/>
            <a:ext cx="7621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2356200" y="28321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279880" y="38228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279880" y="52704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5328000" y="24512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6775560" y="24512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6775560" y="3517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403960" y="3517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Oval 27"/>
          <p:cNvSpPr/>
          <p:nvPr/>
        </p:nvSpPr>
        <p:spPr>
          <a:xfrm>
            <a:off x="5334120" y="5105520"/>
            <a:ext cx="838080" cy="6094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5943600" y="4800600"/>
            <a:ext cx="76212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29"/>
          <p:cNvSpPr/>
          <p:nvPr/>
        </p:nvSpPr>
        <p:spPr>
          <a:xfrm>
            <a:off x="5791320" y="5562720"/>
            <a:ext cx="12189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 flipH="1" flipV="1">
            <a:off x="4876920" y="4876920"/>
            <a:ext cx="76176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31"/>
          <p:cNvSpPr/>
          <p:nvPr/>
        </p:nvSpPr>
        <p:spPr>
          <a:xfrm flipH="1">
            <a:off x="4800240" y="5486400"/>
            <a:ext cx="7621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413600" y="44197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6471000" y="45086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708660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4267080" y="5791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rite with clarity and confidence– don’t be timid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definite.  Your thesis should ANSWER the prompt with your opin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ing brainstormed then organized specific facts, start each paragraph with a clear topic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 to specific facts to support your thinking.  Stick to your structure, refer to your outline as you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ood writing is a problem-solving situation.  Work the process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writing your thesis paragraph, go back and re-read the prom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yourself, “Have I ‘answered’ the prompt with my thesis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three or four points MUST you make to support your thesis.  Write these d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you write, look back at the prompt and at your thesis.  Are you sticking to the top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lan your time so that you can read your essay before you finish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the clock.  Know how much time you have to produce the essa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your thesis and your outline frequent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sure that you have time to go back and read quickly through your ess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ignore a conclusion paragraph.  Sometimes it makes up for weaknesses earlier in the ess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son 4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 the prompt completely more than o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 your task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a thesis that addresses the prom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a general topic sentence to lead off each paragraph. (See notes page for this slid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c within your body paragraphs—use proper nouns (or PEPS).  No generaliz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e before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your thesis and your outline as you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ve time to read your essay before fini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2120" y="762120"/>
            <a:ext cx="79246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ree response essays, in many ways, are the very heart of the AP exam.  They measure your reasoning ability as well as your historical knowledge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succeed with these essays, you must understand the prompts, organize your information, and write a clear and accurate respon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ee response essay prompts put a lot of responsibility on the writer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prompts are very open.  Here is an example of  this type of promp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vernment under the Articles of Confederation has been considered a failure.  Describe three actions of the Confederation government and explain how these actions may or may not be considered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0440" y="274680"/>
            <a:ext cx="81057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hese prompts require you to define the terms, specify the time period, and understand the task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nstance, read the prompt carefull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government under the Articles of Confederation has been considered a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fail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Describe three act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the Confederation government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d expla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how these actions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may or may no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 considered failur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ddress the prompt, the following questions must be answere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time period does this question address? [1781-1789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were 3 (no more) actions of the Confederation Congress that you are going to discus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are you defining “failure” or “success”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0440" y="274680"/>
            <a:ext cx="81057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ome prompts provide clear time periods to be addressed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instance, here are two prompts that specify very clearly the time periods to be discussed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 and contrast United States foreign policy after the First World War and after the Second World War.  Consider the periods 1919-1928 and 1945-195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did the African American Civil Rights movement of the 1950s and 1960s address the failures of Reconstruc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se prompts require you to limit your evidence and to define certain terms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first prompt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ntrast United States foreign policy after the First World War and after the Second World War.  Consider the periods 1919-1928 and 1945-195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ollowing need clarif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al only with foreign policy decis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need to pick decisions that are BOTH different and similar between the early and the later time peri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ext prompt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did the African American Civil Rights movement of the 1950s and 1960s address the failures of Reconstruc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s you to specif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veral “failures of Reconstruc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implies that you know when Reconstruction occurr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to know several very specific results of the later Civil Rights movement that directly addressed the failures of Reconstr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p #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sure you understand exactly your task, what you must “prove” in the ess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y strictly within the time period.  Don’t wan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be specific, specific, specif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levant and time-sensitive PEPS (people, events, places, significance).  Think of PEPS as proper nouns (words that need to be capitalize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use generalities, i.e. many reforms, lots of reformers, many things chang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p #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e your thinking BEFORE you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doesn’t need to be a long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de two or three things you need to discus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ze the facts you have under those heading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ck through them to see that you “balance” the discussion—give each part of the topic equal discus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1:22:11Z</dcterms:created>
  <dc:creator>bnd burns</dc:creator>
  <dc:description/>
  <dc:language>en-US</dc:language>
  <cp:lastModifiedBy>Matthew Myers</cp:lastModifiedBy>
  <dcterms:modified xsi:type="dcterms:W3CDTF">2012-05-08T18:54:01Z</dcterms:modified>
  <cp:revision>12</cp:revision>
  <dc:subject/>
  <dc:title>Lesson 4</dc:title>
</cp:coreProperties>
</file>